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5.wmf" ContentType="image/x-wmf"/>
  <Override PartName="/ppt/media/image12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25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20.jpeg" ContentType="image/jpeg"/>
  <Override PartName="/ppt/media/image18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23.jpeg" ContentType="image/jpeg"/>
  <Override PartName="/ppt/media/image2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17CF-C9C2-4D82-AD1F-D233F9730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BEED-CB4A-4D0F-B9F1-B881976B8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CD51-6A57-4C45-B45B-2CC6BF41A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3C62-6B58-4195-B3F2-AA3B4D19D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7B4CC-B34C-459C-BA5A-8373D7E94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71B3A-0972-4694-BF94-3C2F7B00A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36566-79B5-46AA-9614-855092B53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7419C-010A-4A44-9614-68929D721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FB80F-5638-44CF-A804-4E19AC514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8BA5C-5409-4E36-9388-CC4F713D3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B7D53-5D26-4464-AD48-2DB8EB70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C2FE-2D4F-4FD3-89C4-109759905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68E48-CCC2-4462-A4AC-63E3B48A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68E74-BF62-4F6D-BE7B-FD81C435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191DD-3719-4BD9-BDE8-D28DE480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B699A-502E-4201-9FEC-5E982A56D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16543-86AB-424E-BDF4-2885D31CA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362A-B8BA-4656-BCAB-5AFD50140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1EF3-EC5D-4E44-9F7B-86D68E077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5DDD-3604-46F2-B599-4D8D81B72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486C-351E-405A-B183-24252973C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B990-D256-43E4-BB01-3A899A0F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8FB9-60F1-43EF-BC39-FA9546E3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6C4B-B758-4725-B88A-7830DA85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E111F-1E52-49BC-BA97-81BD81261F4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8BC3C-2257-43BD-97FB-4CA6E1BC21F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NiD9FSp_tMw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4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flation and Deflation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hapter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50560" y="127080"/>
            <a:ext cx="60498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Quantity Theory of Mone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Monetarists argue that the velocity of circulation of money is broadly predictable and therefore assumed to be consta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 and Y (real GDP) tends to increase slowly over time and thus is assumed to be constant in any one yea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If V and T (Y) are held constant then changes in the rate of growth of the money supply will lead directly to changes in the general pric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So as money supply increases so does infl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NiD9FSp_tMw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6300720" y="260280"/>
            <a:ext cx="2698920" cy="1739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Quantity Theory of Money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heory that increase in the money supply will lead to increases in the pric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6276960" y="2168640"/>
            <a:ext cx="270036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elocity of circulation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number of times the money supply changes hands in a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6319800" y="3583080"/>
            <a:ext cx="273528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y duck inflation 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2"/>
          <a:stretch/>
        </p:blipFill>
        <p:spPr>
          <a:xfrm>
            <a:off x="6319800" y="4187880"/>
            <a:ext cx="273528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1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50920" y="127080"/>
            <a:ext cx="5184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99"/>
                </a:solidFill>
                <a:latin typeface="Arial"/>
              </a:rPr>
              <a:t>Consequences of infl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Low and stable inflation is often seen as an indicator of a healthy econom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Hyperinflation indicates an economy out of contro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here are a variety of consequen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33399"/>
                </a:solidFill>
                <a:latin typeface="Arial"/>
              </a:rPr>
              <a:t>International competitivenes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If inflation is higher in the UK than other international competitors UK goods and services will become less price competitive (ceteris paribu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Around 30% of the UK’s GDP is generated by exports and a similar value is import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he potential effect on growth, employment and the balance of payments is significa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Exporting firms may need to make redundancies and revenues will fal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If X reduces X-I will reduce which will reducing growth of AD and an output ga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5148360" y="189000"/>
            <a:ext cx="3995640" cy="11912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xaminer’s tip: try to remember the detail of three or four costs for consequences of inflation for your Unit 4 ex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Uk_exports_thumb"/>
          <p:cNvPicPr/>
          <p:nvPr/>
        </p:nvPicPr>
        <p:blipFill>
          <a:blip r:embed="rId1"/>
          <a:stretch/>
        </p:blipFill>
        <p:spPr>
          <a:xfrm>
            <a:off x="5364000" y="2373480"/>
            <a:ext cx="3746520" cy="30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3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50920" y="127080"/>
            <a:ext cx="5184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99"/>
                </a:solidFill>
                <a:latin typeface="Arial"/>
              </a:rPr>
              <a:t>Consequences of infl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ore conseque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Arial"/>
              </a:rPr>
              <a:t>Effect on Invest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vestment by firms needs future certainty and optimis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flation causes uncertainty of costs, revenues and therefore profit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vestment levels may f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oor investment over time will affect growth, employment and the balance of pay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Arial"/>
              </a:rPr>
              <a:t>Menu co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is is the administrative cost of frequent changes in goods and serv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se costs may be passed on to the consumer contributing to cost push inf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investment1"/>
          <p:cNvPicPr/>
          <p:nvPr/>
        </p:nvPicPr>
        <p:blipFill>
          <a:blip r:embed="rId1"/>
          <a:stretch/>
        </p:blipFill>
        <p:spPr>
          <a:xfrm>
            <a:off x="5402160" y="1046160"/>
            <a:ext cx="33847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0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250920" y="127080"/>
            <a:ext cx="5184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onsequences of infl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re con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Unanticipated inf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is a difference between anticipated (expected) and unanticipated (not expected) inf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people expect inflation of 2% but inflation is 4% there is unexpected inflation of 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is what leads to uncertainty that undermines 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anticipated inflation is likely to happen when inflation is unstable and high which is why the UK government tries hard to keep it low and st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surprised-wome_300"/>
          <p:cNvPicPr/>
          <p:nvPr/>
        </p:nvPicPr>
        <p:blipFill>
          <a:blip r:embed="rId1"/>
          <a:stretch/>
        </p:blipFill>
        <p:spPr>
          <a:xfrm>
            <a:off x="5759280" y="1341360"/>
            <a:ext cx="321948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50560" y="127080"/>
            <a:ext cx="60498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Consequences of infl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re consequ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Shoe leather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prices are rising consumers will spend more time, effort and possibly money shopping a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evokes the image of people pacing the high street but in reality consumers and firms are more likely to carry out the search by telephone or the interne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Effect on distribution of in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important source of economic injustice and social un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flation creates winners and lo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winners are the borrowers whose future payment is fix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losers will be savers who have a variable return for example pensioners who will see their purchasing power f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government could index link pensions and benefits to make sure they are in line with infl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worn+out+shoes1"/>
          <p:cNvPicPr/>
          <p:nvPr/>
        </p:nvPicPr>
        <p:blipFill>
          <a:blip r:embed="rId1"/>
          <a:stretch/>
        </p:blipFill>
        <p:spPr>
          <a:xfrm>
            <a:off x="6216480" y="1106640"/>
            <a:ext cx="2692440" cy="40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4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4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4" dur="5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9" dur="5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4" dur="500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9" dur="500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0" y="-27000"/>
            <a:ext cx="6084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onsequences of inflation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re consequ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Worsening industrial re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iedman’s comment is very melodramatic but it is true that strikes can be widespread during periods of inf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ers feel that they are losing out and fight for more p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Fiscal dr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n ever you see the word ‘drag’ think about something dragging beh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is about tax allowances being behind inflation; it is not keeping up with inflation and people are worse 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someone has a tax allowance of £5000 and earns £5000 they will pay no 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prices rise by 10% and income rises the same amount that person will then be paid £5,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y will now be taxed around 20% of the £500 (£100) and therefore be worse 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chancellor can increase the tax free allowance in line with inf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6156360" y="333360"/>
            <a:ext cx="2612880" cy="20142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flation tears at the fabric of society and sets up groups of workers against one another in increasingly violent conflict’ – Milton Fried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6156360" y="2492280"/>
            <a:ext cx="2612880" cy="1739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iscal dra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increases in the burden of taxation when tax allowances are not increased in line with inf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04"/>
          <p:cNvPicPr/>
          <p:nvPr/>
        </p:nvPicPr>
        <p:blipFill>
          <a:blip r:embed="rId1"/>
          <a:stretch/>
        </p:blipFill>
        <p:spPr>
          <a:xfrm>
            <a:off x="6192720" y="4508640"/>
            <a:ext cx="320364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6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1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6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6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1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6" dur="5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6" dur="500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1" dur="500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6" dur="500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4752720" cy="642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Consequences of inflation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 - Hyperinf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ually regarded as inflation in excess of 1000% per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urrency is effectively destroyed and cannot be used as a medium of exchange or a store of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economic system would resort to ba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e Zimbabwe vi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zimbabwe-cash-inflation"/>
          <p:cNvPicPr/>
          <p:nvPr/>
        </p:nvPicPr>
        <p:blipFill>
          <a:blip r:embed="rId1"/>
          <a:stretch/>
        </p:blipFill>
        <p:spPr>
          <a:xfrm>
            <a:off x="5364000" y="692280"/>
            <a:ext cx="3318120" cy="4454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Object 8"/>
          <p:cNvGraphicFramePr/>
          <p:nvPr/>
        </p:nvGraphicFramePr>
        <p:xfrm>
          <a:off x="6588000" y="5589720"/>
          <a:ext cx="914400" cy="771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8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88000" y="5589720"/>
                    <a:ext cx="91440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3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8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3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8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23640" y="404280"/>
            <a:ext cx="5400360" cy="642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an inflation be a good th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en says that low predictable levels of inflation provide psychological incentives for firms and individ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 inflation rates of around 2% workers see some rise in pay (in money ter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rms see revenues incre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ould be pure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money il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felt to be preferable to no price in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6300720" y="4653000"/>
            <a:ext cx="2613240" cy="1739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ney illus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when economic agents fail to realise that changes in money values are not the same as changes in real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6227640" y="549360"/>
            <a:ext cx="2613240" cy="916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reeping inflation lubricates the wheels of industry’ – G.C.Al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0" descr="MoneyIllusion17_thumb"/>
          <p:cNvPicPr/>
          <p:nvPr/>
        </p:nvPicPr>
        <p:blipFill>
          <a:blip r:embed="rId1"/>
          <a:stretch/>
        </p:blipFill>
        <p:spPr>
          <a:xfrm>
            <a:off x="6156360" y="1557360"/>
            <a:ext cx="280332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0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5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0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5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8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23640" y="189000"/>
            <a:ext cx="5400360" cy="64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an inflation be a good th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reality 0% inflation and a 0% wage is the same as 2% inflation and a 2% pay r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sychologically the second option is prefer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arget of 2% plus or minus 1% suggest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difficult to hit a target with any 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must be reasons why governments prefer gentle inf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seen as equally bad if you undershoot the target as it is to overshoot the 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celebs-money-illusion18"/>
          <p:cNvPicPr/>
          <p:nvPr/>
        </p:nvPicPr>
        <p:blipFill>
          <a:blip r:embed="rId1"/>
          <a:stretch/>
        </p:blipFill>
        <p:spPr>
          <a:xfrm>
            <a:off x="5738760" y="1268280"/>
            <a:ext cx="320040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5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0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5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0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5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0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50920" y="128160"/>
            <a:ext cx="446544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Def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re is good deflation and bad def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Arial"/>
              </a:rPr>
              <a:t>Good deflation (benig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is comes about from the LRAS shif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utput will increase and price levels with f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is assumes that AD remains (ceteris paribu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is will also give a lower level of unemployment (derived demand for labour from the increased demand for goods and ser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4716360" y="333360"/>
            <a:ext cx="42688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fla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– a persistent fall in the average price level in the economy usually measured with the CPI (Consumer Price Ind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rcRect l="0" t="0" r="50004" b="12094"/>
          <a:stretch/>
        </p:blipFill>
        <p:spPr>
          <a:xfrm>
            <a:off x="5099040" y="2976480"/>
            <a:ext cx="3886200" cy="3875040"/>
          </a:xfrm>
          <a:prstGeom prst="rect">
            <a:avLst/>
          </a:prstGeom>
          <a:ln w="0">
            <a:noFill/>
          </a:ln>
        </p:spPr>
      </p:pic>
      <p:sp>
        <p:nvSpPr>
          <p:cNvPr id="138" name="TextBox 1"/>
          <p:cNvSpPr/>
          <p:nvPr/>
        </p:nvSpPr>
        <p:spPr>
          <a:xfrm>
            <a:off x="5580000" y="1724040"/>
            <a:ext cx="3276720" cy="1465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diagram is technically incorrect because it still shows inflation (prices are above 0) and there really is no diagram to draw for def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1908000" y="5651640"/>
            <a:ext cx="3384720" cy="91692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enign defla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falling prices resulting from technological advances across the 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440208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Inf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most common way of measuring this in the UK is the CP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en the rate of inflation is published it means the percentage increase in the CPI over the previous 12 months (annual infla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en we learn micro economics we see that prices go up and down all the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 macro we are describing a general movement of all pr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current CPI target is 2% plus or minus 1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is diagram shows recent UK data for both the RPI and the CP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CPI excludes housing co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7164360" y="189000"/>
            <a:ext cx="1727280" cy="1465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fla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a sustained increase in the general pric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5003640" y="5229360"/>
            <a:ext cx="3889440" cy="1465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nsumer Price Index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the headline measure of inflation derived from movements in a weighted basket of consumer goods over a 12 month 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5724360" y="2421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ert fig 12.1 P1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1"/>
          <a:srcRect l="26379" t="21645" r="26967" b="28272"/>
          <a:stretch/>
        </p:blipFill>
        <p:spPr>
          <a:xfrm>
            <a:off x="5003640" y="2133720"/>
            <a:ext cx="381636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5" descr="http://www.google.co.uk/url?source=imglanding&amp;ct=img&amp;q=http://www.marketoracle.co.uk/images/2009/July/deflation-6-5.jpg&amp;sa=X&amp;ei=-KGwT6KrJ4KnhAfs-ZzgCA&amp;ved=0CAwQ8wc&amp;usg=AFQjCNE5tG4yJqqrLwaH1B3aaG-_rzEzbA"/>
          <p:cNvPicPr/>
          <p:nvPr/>
        </p:nvPicPr>
        <p:blipFill>
          <a:blip r:embed="rId1"/>
          <a:srcRect l="9660" t="11465" r="6236" b="6294"/>
          <a:stretch/>
        </p:blipFill>
        <p:spPr>
          <a:xfrm>
            <a:off x="4975200" y="2349360"/>
            <a:ext cx="4165560" cy="298476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50560" y="61560"/>
            <a:ext cx="554508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Def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Bad deflation (malevol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omes about from AD shif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downwards shift of AD will result in lower price levels but also lower output (less grow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ould lead to an increase in unem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mand for goods and services will de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our is a derived d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people think prices will go down they will put off con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they see prices fall this will confirm their thou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will further put off consumption and AD will keep fa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6084720" y="328680"/>
            <a:ext cx="2232360" cy="173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levolent defla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falling prices resulting from a significant downturn in economic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23640" y="112320"/>
            <a:ext cx="5400360" cy="642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Def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Japan has a problem with deflation for more than a deca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anks collapsed due to bad debts and bad investments in their own stock mark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eople built up precautionary savings in case they lost their job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is depressed consumption and 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terest rates were cut to 0.25% but it didn’t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damage had been don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nsumer and business confidence crumbled with people and firms reluctant to spe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on’t confuse deflation with a falling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rat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of inflation (this is called disinfla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" descr="071509sleuth1"/>
          <p:cNvPicPr/>
          <p:nvPr/>
        </p:nvPicPr>
        <p:blipFill>
          <a:blip r:embed="rId1"/>
          <a:stretch/>
        </p:blipFill>
        <p:spPr>
          <a:xfrm>
            <a:off x="5435640" y="2284560"/>
            <a:ext cx="326376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9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4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9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4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9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4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9" dur="5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4" dur="500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79280" y="112320"/>
            <a:ext cx="4803840" cy="642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Deflation/Disinf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om 1999 to 2000 the inflation rate rose from 1.2% to 1.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om 2000 to 2001 the inflation rate fell from 1.6% to 1.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average level of prices rose but at a lower rate than the previous year – disinf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he next two years the inflation rate continued to fall (prices were still rising but by a smaller and smaller amou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2004 the country started to experience deflation (the average level of prices fell by 0.5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om 2004 to 2005 the country was still in a period of deflation where average prices fell by 0.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4983120" y="825480"/>
            <a:ext cx="418788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79280" y="112320"/>
            <a:ext cx="8856720" cy="642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Do you understa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ch period of time did Japan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f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sinf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f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611280" y="2133720"/>
            <a:ext cx="793116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7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2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7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2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5" descr="http://www.google.co.uk/url?source=imglanding&amp;ct=img&amp;q=http://i.telegraph.co.uk/multimedia/archive/01116/PF-deflation_1116125c.jpg&amp;sa=X&amp;ei=k6KwT8ypGIeHhQeW_u39CA&amp;ved=0CAsQ8wc&amp;usg=AFQjCNEloQg40SDn1AVE973qmnWoM32zEg"/>
          <p:cNvPicPr/>
          <p:nvPr/>
        </p:nvPicPr>
        <p:blipFill>
          <a:blip r:embed="rId1"/>
          <a:stretch/>
        </p:blipFill>
        <p:spPr>
          <a:xfrm>
            <a:off x="5675400" y="2205000"/>
            <a:ext cx="3462120" cy="216684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79280" y="112320"/>
            <a:ext cx="6337440" cy="642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osts of Def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though consumers may be pleased with falling prices there are many problems with def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flation is also a bit of an unknown so it is more difficult to deal with than inf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economists argue that the costs of deflation are higher than inf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ff"/>
                </a:solidFill>
                <a:latin typeface="Arial"/>
              </a:rPr>
              <a:t>Unemplo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AD is low businesses may lay off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prices fall consumers will put off purcha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rms will have to drop prices to encourage consu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umers will again put of purchasing believing that prices will fall further (deferred consump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umer confidence drops further depressing 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is known as a deflationary spi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vestment will also be put 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78920" y="112320"/>
            <a:ext cx="3218040" cy="642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osts of Def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ff"/>
                </a:solidFill>
                <a:latin typeface="Arial"/>
              </a:rPr>
              <a:t>Costs to deb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yone who has taken a loan (including house buyers who have taken a mortgage) suffers from deflation because the value of their debt ri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profits are low businesses will find it difficult to pay back lo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may be many bankrupt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will make business confidence even wo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4859280" y="5421240"/>
            <a:ext cx="172728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y Japan Inflation 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rcRect l="16875" t="29299" r="31328" b="33787"/>
          <a:stretch/>
        </p:blipFill>
        <p:spPr>
          <a:xfrm>
            <a:off x="3397320" y="1628640"/>
            <a:ext cx="5651280" cy="32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nodeType="clickEffect" fill="hold">
                      <p:stCondLst>
                        <p:cond delay="indefinite"/>
                      </p:stCondLst>
                      <p:childTnLst>
                        <p:par>
                          <p:cTn id="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78920" y="112320"/>
            <a:ext cx="4537080" cy="642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Abe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apan is now determined to get out of def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are dong something called Abenom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basically mass Quantitative ea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ttp://www.youtube.com/watch?v=cJKspInAY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ttp://www.youtube.com/watch?v=Njp8bKpi-v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" descr=""/>
          <p:cNvPicPr/>
          <p:nvPr/>
        </p:nvPicPr>
        <p:blipFill>
          <a:blip r:embed="rId1"/>
          <a:stretch/>
        </p:blipFill>
        <p:spPr>
          <a:xfrm>
            <a:off x="5041800" y="744480"/>
            <a:ext cx="3922920" cy="51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4" dur="indefinite" restart="never" nodeType="tmRoot">
          <p:childTnLst>
            <p:seq>
              <p:cTn id="955" dur="indefinite" nodeType="mainSeq">
                <p:childTnLst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44020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The Consumer Price Index (CP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he CPI is a weighted price index used to measure the change in the prices of a typical basket of goods and servic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he contents of the basket are changed each year using information from the Family expenditure Surve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hanges in weighting reflects changes in spending behaviour (the more that is spent the higher the weighting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In 2008 fruit smoothies, muffins and USBs were included in the bask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Microwaves, 35mm camera film and CD singles were remov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4716360" y="5229360"/>
            <a:ext cx="4176720" cy="11912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amily Expenditure Surve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a representative monthly survey of UK household expenditure used to derive changes in the C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BasketOfGoods"/>
          <p:cNvPicPr/>
          <p:nvPr/>
        </p:nvPicPr>
        <p:blipFill>
          <a:blip r:embed="rId1"/>
          <a:stretch/>
        </p:blipFill>
        <p:spPr>
          <a:xfrm>
            <a:off x="5076720" y="1089000"/>
            <a:ext cx="401004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250920" y="127080"/>
            <a:ext cx="42559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99"/>
                </a:solidFill>
                <a:latin typeface="Arial"/>
              </a:rPr>
              <a:t>Using index number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is is straight forward if you can calculate percentage chan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his table shows the made up index of house pr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2005 is the base yea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In 2006 there is an increase of 8.4% so the index goes up to 108.4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In 2007 there is an increase of 20% since 2005 so the index is 120.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We need to take more care when working out the percentage change from 2006 to 2007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It is not 11.6%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It is (120-108.4)/108.4 x 100 = 10.7%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(Difference between the two years divided by the original year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643280" y="333360"/>
          <a:ext cx="4038840" cy="2917800"/>
        </p:xfrm>
        <a:graphic>
          <a:graphicData uri="http://schemas.openxmlformats.org/drawingml/2006/table">
            <a:tbl>
              <a:tblPr/>
              <a:tblGrid>
                <a:gridCol w="2019600"/>
                <a:gridCol w="2019240"/>
              </a:tblGrid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64880" y="127080"/>
            <a:ext cx="89787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99"/>
                </a:solidFill>
                <a:latin typeface="Arial"/>
              </a:rPr>
              <a:t>Limitations of the consumer price index as a measure of infl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fferent population groups experience different rates of inf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PI is an average household and not representative of individual househo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weighting for tobacco or motoring expenses will be irrelevant for non smokers and those without a 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PI does not include house pr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rtgage prices will be a high proportion of spend of younger house buy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y older home owners will have paid off their mortg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PI may overestimate inf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ce rises may hide improvements in the quality of goods an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s and electrical goods may have gone up in price but this is due to new inno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2" descr="uk_consumer_price_index_rose_in_october_at_32"/>
          <p:cNvPicPr/>
          <p:nvPr/>
        </p:nvPicPr>
        <p:blipFill>
          <a:blip r:embed="rId1"/>
          <a:stretch/>
        </p:blipFill>
        <p:spPr>
          <a:xfrm>
            <a:off x="2195640" y="4181400"/>
            <a:ext cx="428616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Were you listening?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might the CPI not be a good index to u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920" y="127080"/>
            <a:ext cx="5184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3399"/>
                </a:solidFill>
                <a:latin typeface="Arial"/>
              </a:rPr>
              <a:t>Causes of infl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flation comes from several 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t can come directly from the </a:t>
            </a: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domestic econom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Price strategies of leading food retailers based on the strength of demand or competitive pressur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A rise in VAT cause firm’s production costs to go up and these being passed onto the consum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t can come from </a:t>
            </a: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external 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crease in price of crude oil or other imported commodities, foodstuffs and bever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hanges in exchange r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falling pound against the Euro might cause higher import prices (remember WIDEC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VAT+rise+better"/>
          <p:cNvPicPr/>
          <p:nvPr/>
        </p:nvPicPr>
        <p:blipFill>
          <a:blip r:embed="rId1"/>
          <a:srcRect l="18500" t="0" r="17249" b="0"/>
          <a:stretch/>
        </p:blipFill>
        <p:spPr>
          <a:xfrm>
            <a:off x="5508720" y="333360"/>
            <a:ext cx="3127320" cy="3245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food-prices-raise"/>
          <p:cNvPicPr/>
          <p:nvPr/>
        </p:nvPicPr>
        <p:blipFill>
          <a:blip r:embed="rId2"/>
          <a:stretch/>
        </p:blipFill>
        <p:spPr>
          <a:xfrm>
            <a:off x="5796000" y="400536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50920" y="127080"/>
            <a:ext cx="5184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Causes of infl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The two main categories of inflation are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Cost push and Demand Pul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What is Cost push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Things that cause production costs to go up and force firms to raise their prices to maintain profit margi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 rise in costs of imported raw materi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sing labour 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igher indirect tax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age price spir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aw a diagram illustrating cost push inf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What is Demand pull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Most likely to occur when there is little spare capacity in the econom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Increase in AD will lead to an increase in pric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When does AD increase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When one or more of the components increas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aw a diagram illustrating demand p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At A2 we add a third type – excessive growth of the money suppl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5867280" y="206064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ert diagrams on P1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rcRect l="18697" t="25438" r="41147" b="27314"/>
          <a:stretch/>
        </p:blipFill>
        <p:spPr>
          <a:xfrm>
            <a:off x="5364000" y="917640"/>
            <a:ext cx="3670560" cy="2698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2"/>
          <a:srcRect l="18697" t="26378" r="35821" b="28272"/>
          <a:stretch/>
        </p:blipFill>
        <p:spPr>
          <a:xfrm>
            <a:off x="5616720" y="4005360"/>
            <a:ext cx="352728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1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0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0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50920" y="127080"/>
            <a:ext cx="5184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Quantity Theory of Mone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Devised by Irving Fisher to explain the link between money and the general pric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Based on the </a:t>
            </a:r>
            <a:r>
              <a:rPr b="0" lang="en-GB" sz="2200" spc="-1" strike="noStrike">
                <a:solidFill>
                  <a:srgbClr val="333399"/>
                </a:solidFill>
                <a:latin typeface="Arial"/>
              </a:rPr>
              <a:t>Fisher equation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or the equation of exchang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his is the mathematical identity which relates aggregate demand to the total value of output (GDP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9999"/>
                </a:solidFill>
                <a:latin typeface="Arial"/>
              </a:rPr>
              <a:t>M x V≡ P x T or (MV≡P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M is the money suppl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V is the velocity of circulation (e.g. how many times a £20 note is used to buy goods and services in year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P is the general pric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 stands for transactions and is equivalent to outpu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Y is the real value of national output (real GDP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5796000" y="260280"/>
            <a:ext cx="3203640" cy="11912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Quantity Theory of Money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heory that increase in the money supply will lead to increases in the pric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5796000" y="1989000"/>
            <a:ext cx="320364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elocity of circulation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number of times the money supply changes hands in a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1:18:22Z</dcterms:created>
  <dc:creator>Rom</dc:creator>
  <dc:description/>
  <dc:language>en-US</dc:language>
  <cp:lastModifiedBy>Julia Peters</cp:lastModifiedBy>
  <dcterms:modified xsi:type="dcterms:W3CDTF">2014-06-22T11:16:24Z</dcterms:modified>
  <cp:revision>19</cp:revision>
  <dc:subject/>
  <dc:title>Inflation and Deflation Chapter 12</dc:title>
</cp:coreProperties>
</file>